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8.jpeg" ContentType="image/jpeg"/>
  <Override PartName="/ppt/media/action.wav" ContentType="audio/x-wav"/>
  <Override PartName="/ppt/media/image4.png" ContentType="image/png"/>
  <Override PartName="/ppt/media/laser.wav" ContentType="audio/x-wav"/>
  <Override PartName="/ppt/media/bad2bone.wav" ContentType="audio/x-wav"/>
  <Override PartName="/ppt/media/working.wav" ContentType="audio/x-wav"/>
  <Override PartName="/ppt/media/thatsallfolks.wav" ContentType="audio/x-wav"/>
  <Override PartName="/ppt/media/understanding.wav" ContentType="audio/x-wav"/>
  <Override PartName="/ppt/media/image6.png" ContentType="image/png"/>
  <Override PartName="/ppt/media/image9.jpeg" ContentType="image/jpeg"/>
  <Override PartName="/ppt/media/voltage.wav" ContentType="audio/x-wav"/>
  <Override PartName="/ppt/media/not_in_kansas.wav" ContentType="audio/x-wav"/>
  <Override PartName="/ppt/media/image7.png" ContentType="image/png"/>
  <Override PartName="/ppt/media/image1.png" ContentType="image/png"/>
  <Override PartName="/ppt/media/image3.jpeg" ContentType="image/jpeg"/>
  <Override PartName="/ppt/media/stuart.wav" ContentType="audio/x-wav"/>
  <Override PartName="/ppt/media/image2.png" ContentType="image/png"/>
  <Override PartName="/ppt/media/aletter.wav" ContentType="audio/x-wav"/>
  <Override PartName="/ppt/media/pu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BA0-23E6-48FB-B54B-49D11C58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B00-D973-4083-8EE8-61009E1D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E50-7044-41D4-9A95-162D5365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EAF-45EF-4ECA-BA93-BFC5EBFF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A8A-432A-4E56-A6AF-8DD05235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7C7-5FEF-4CB5-8A82-2CB15314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7B2-4E72-4F6E-A67F-B849F35D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745-93A8-4802-887E-155F6A94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471-93F7-489C-8000-2B61E67D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0DC-44E7-4E1B-BB23-2D714570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A2A-9EC0-4CEF-BD39-CB4C1386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566-2799-42FB-9210-B0927BB7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F7C4-A962-4B1F-B61C-F80D9A6B5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lett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stuart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ctio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not_in_kansa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orking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hatsallfolk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understandin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ad2bon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5029200" cy="3124440"/>
          </a:xfrm>
          <a:prstGeom prst="rect">
            <a:avLst/>
          </a:prstGeom>
          <a:solidFill>
            <a:srgbClr val="8d1728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Dear Juno</a:t>
            </a:r>
            <a:br>
              <a:rPr sz="6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Wall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81120"/>
            <a:ext cx="6400800" cy="1219320"/>
          </a:xfrm>
          <a:prstGeom prst="rect">
            <a:avLst/>
          </a:prstGeom>
          <a:solidFill>
            <a:srgbClr val="a81c30"/>
          </a:solidFill>
          <a:ln w="381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 5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dear_juno"/>
          <p:cNvPicPr/>
          <p:nvPr/>
        </p:nvPicPr>
        <p:blipFill>
          <a:blip r:embed="rId1"/>
          <a:stretch/>
        </p:blipFill>
        <p:spPr>
          <a:xfrm>
            <a:off x="5410080" y="762120"/>
            <a:ext cx="358164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lett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3520" y="4114800"/>
            <a:ext cx="8153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My    </a:t>
            </a:r>
            <a:r>
              <a:rPr b="1" lang="en-US" sz="8800" spc="-1" strike="noStrike">
                <a:solidFill>
                  <a:srgbClr val="ff0000"/>
                </a:solidFill>
                <a:latin typeface="Century Gothic"/>
              </a:rPr>
              <a:t>parents</a:t>
            </a: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       care about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arenting"/>
          <p:cNvPicPr/>
          <p:nvPr/>
        </p:nvPicPr>
        <p:blipFill>
          <a:blip r:embed="rId1"/>
          <a:stretch/>
        </p:blipFill>
        <p:spPr>
          <a:xfrm>
            <a:off x="2209680" y="380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657600" y="2133720"/>
            <a:ext cx="487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I would like to paint a  picture     in art clas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733920" y="434340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artmat"/>
          <p:cNvPicPr/>
          <p:nvPr/>
        </p:nvPicPr>
        <p:blipFill>
          <a:blip r:embed="rId1"/>
          <a:stretch/>
        </p:blipFill>
        <p:spPr>
          <a:xfrm>
            <a:off x="-228600" y="457200"/>
            <a:ext cx="42400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657600" y="2133720"/>
            <a:ext cx="48769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I would like to paint a  </a:t>
            </a:r>
            <a:r>
              <a:rPr b="1" lang="en-US" sz="8800" spc="-1" strike="noStrike">
                <a:solidFill>
                  <a:srgbClr val="ff0000"/>
                </a:solidFill>
                <a:latin typeface="Century Gothic"/>
              </a:rPr>
              <a:t>picture</a:t>
            </a: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     in art clas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rtmat"/>
          <p:cNvPicPr/>
          <p:nvPr/>
        </p:nvPicPr>
        <p:blipFill>
          <a:blip r:embed="rId1"/>
          <a:stretch/>
        </p:blipFill>
        <p:spPr>
          <a:xfrm>
            <a:off x="-228600" y="457200"/>
            <a:ext cx="42400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80880" y="358128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Leaning Tower of Pisa is in a faraway country called Ita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343400" y="4572000"/>
            <a:ext cx="4495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leaningtower"/>
          <p:cNvPicPr/>
          <p:nvPr/>
        </p:nvPicPr>
        <p:blipFill>
          <a:blip r:embed="rId1"/>
          <a:stretch/>
        </p:blipFill>
        <p:spPr>
          <a:xfrm>
            <a:off x="3443400" y="457200"/>
            <a:ext cx="2446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80880" y="3581280"/>
            <a:ext cx="8305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Leaning Tower of Pisa is in a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faraway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country called Ita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leaningtower"/>
          <p:cNvPicPr/>
          <p:nvPr/>
        </p:nvPicPr>
        <p:blipFill>
          <a:blip r:embed="rId1"/>
          <a:stretch/>
        </p:blipFill>
        <p:spPr>
          <a:xfrm>
            <a:off x="3443400" y="457200"/>
            <a:ext cx="2446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371600" y="4038480"/>
            <a:ext cx="693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My dad works for a construction     company      .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447920" y="563868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company"/>
          <p:cNvPicPr/>
          <p:nvPr/>
        </p:nvPicPr>
        <p:blipFill>
          <a:blip r:embed="rId1"/>
          <a:stretch/>
        </p:blipFill>
        <p:spPr>
          <a:xfrm>
            <a:off x="1523880" y="119160"/>
            <a:ext cx="54104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371600" y="3962520"/>
            <a:ext cx="693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My dad works for a construction     </a:t>
            </a:r>
            <a:r>
              <a:rPr b="1" lang="en-US" sz="7200" spc="-1" strike="noStrike">
                <a:solidFill>
                  <a:srgbClr val="ff0000"/>
                </a:solidFill>
                <a:latin typeface="Century Gothic"/>
              </a:rPr>
              <a:t>company</a:t>
            </a: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 .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ompany"/>
          <p:cNvPicPr/>
          <p:nvPr/>
        </p:nvPicPr>
        <p:blipFill>
          <a:blip r:embed="rId1"/>
          <a:stretch/>
        </p:blipFill>
        <p:spPr>
          <a:xfrm>
            <a:off x="1523880" y="119160"/>
            <a:ext cx="54104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wa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16765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Century Gothic"/>
              </a:rPr>
              <a:t>company</a:t>
            </a:r>
            <a:endParaRPr b="0" lang="en-US" sz="1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ictu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cho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answ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farawa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r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comp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arent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80880" y="205740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Century Gothic"/>
              </a:rPr>
              <a:t>faraway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1676520"/>
            <a:ext cx="914400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answe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chool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6" descr="porkypig"/>
          <p:cNvPicPr/>
          <p:nvPr/>
        </p:nvPicPr>
        <p:blipFill>
          <a:blip r:embed="rId1"/>
          <a:stretch/>
        </p:blipFill>
        <p:spPr>
          <a:xfrm>
            <a:off x="2057400" y="-76320"/>
            <a:ext cx="4984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533520" y="441972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answer       is th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057400" y="4419720"/>
            <a:ext cx="3962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3hand1"/>
          <p:cNvPicPr/>
          <p:nvPr/>
        </p:nvPicPr>
        <p:blipFill>
          <a:blip r:embed="rId1"/>
          <a:stretch/>
        </p:blipFill>
        <p:spPr>
          <a:xfrm rot="19869600">
            <a:off x="2819520" y="30492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4419720"/>
            <a:ext cx="7848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answer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   is th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hand1"/>
          <p:cNvPicPr/>
          <p:nvPr/>
        </p:nvPicPr>
        <p:blipFill>
          <a:blip r:embed="rId1"/>
          <a:stretch/>
        </p:blipFill>
        <p:spPr>
          <a:xfrm rot="19869600">
            <a:off x="2819520" y="30492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3520" y="44197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Make sure to   wash your hands we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638680" y="4495680"/>
            <a:ext cx="3124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washhands"/>
          <p:cNvPicPr/>
          <p:nvPr/>
        </p:nvPicPr>
        <p:blipFill>
          <a:blip r:embed="rId1"/>
          <a:stretch/>
        </p:blipFill>
        <p:spPr>
          <a:xfrm>
            <a:off x="3389400" y="304920"/>
            <a:ext cx="2982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3520" y="4419720"/>
            <a:ext cx="8153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Make sure to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was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your hands we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washhands"/>
          <p:cNvPicPr/>
          <p:nvPr/>
        </p:nvPicPr>
        <p:blipFill>
          <a:blip r:embed="rId1"/>
          <a:stretch/>
        </p:blipFill>
        <p:spPr>
          <a:xfrm>
            <a:off x="3389400" y="304920"/>
            <a:ext cx="2982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402264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We attend Piedmont         School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33520" y="5029200"/>
            <a:ext cx="44193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school8"/>
          <p:cNvPicPr/>
          <p:nvPr/>
        </p:nvPicPr>
        <p:blipFill>
          <a:blip r:embed="rId1"/>
          <a:stretch/>
        </p:blipFill>
        <p:spPr>
          <a:xfrm>
            <a:off x="609480" y="533520"/>
            <a:ext cx="3056040" cy="3276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6"/>
          <p:cNvSpPr/>
          <p:nvPr/>
        </p:nvSpPr>
        <p:spPr>
          <a:xfrm>
            <a:off x="1371600" y="2230560"/>
            <a:ext cx="15238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4022640"/>
            <a:ext cx="8153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We attend Piedmont       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School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chool8"/>
          <p:cNvPicPr/>
          <p:nvPr/>
        </p:nvPicPr>
        <p:blipFill>
          <a:blip r:embed="rId1"/>
          <a:stretch/>
        </p:blipFill>
        <p:spPr>
          <a:xfrm>
            <a:off x="609480" y="533520"/>
            <a:ext cx="3056040" cy="327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371600" y="2230560"/>
            <a:ext cx="15238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33520" y="411480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My    parents       care about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438280" y="426708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parenting"/>
          <p:cNvPicPr/>
          <p:nvPr/>
        </p:nvPicPr>
        <p:blipFill>
          <a:blip r:embed="rId1"/>
          <a:stretch/>
        </p:blipFill>
        <p:spPr>
          <a:xfrm>
            <a:off x="2209680" y="380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teacher</cp:lastModifiedBy>
  <dcterms:modified xsi:type="dcterms:W3CDTF">2010-11-06T19:38:07Z</dcterms:modified>
  <cp:revision>32</cp:revision>
  <dc:subject/>
  <dc:title>Turtle’s Race With Beaver Word Wall Words</dc:title>
</cp:coreProperties>
</file>